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FA878-C01C-4F4B-BD89-AB3AB634E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A3231-C285-44D9-BEC4-E3C52DF18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EFD56-F7E0-426B-ABEE-90D4B4297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A4A60-3CDD-4109-A781-414EF3B71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9A207-3311-4EF3-AC7B-2F80BCAC4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CEED9-4C14-4C4E-B461-BDD548936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2DF20-BAB7-456D-A933-BFF0DCE8E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16FA1-1206-4862-A08E-98B552A98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08C15-5633-4778-BA17-47A14C842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D1C3-F343-448D-B784-60AB69AFC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B912-9185-4BA2-B8D1-40832002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9EF6F-48C6-4788-B119-2AC69598F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6BCC-86F9-4150-87B1-152D3DB57E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ttp://www.eia.doe.gov/kids/energyfacts/sources/renewable/solar.html</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ttp://www.energyquest.ca.gov/story/chapter15.htm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4" name="Content Placeholder 3" descr="crazy.jpg"/>
          <p:cNvPicPr/>
          <p:nvPr/>
        </p:nvPicPr>
        <p:blipFill>
          <a:blip r:embed="rId1"/>
          <a:stretch/>
        </p:blipFill>
        <p:spPr>
          <a:xfrm>
            <a:off x="2495520" y="1792440"/>
            <a:ext cx="4152960" cy="41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ar cells are also called photovoltaic cells - or PV cells for short - and can be found on many small appliances, like calculators, and even on spacecraft. They were first developed in the 1950s for use on U.S. space satellites. They are made of silicon, a special type of melted s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sunlight strikes the solar cell, electrons are knocked loose. They move toward the treated front surface. An electron imbalance is created between the front and back. When the two surfaces are joined by a connector, like a wire, a current of electricity occurs between the negative and positive sid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individual solar cells are arranged together in a PV module and the modules are grouped together in an array. Some of the arrays are set on special tracking devices to follow sunlight all day long.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lectrical energy from solar cells can then be used directly. It can be used in a home for lights and appliances. It can be used in a business. Solar energy can be stored in batteries to light a roadside billboard at night. Or the energy can be stored in a battery for an emergency roadside cellular telephone when no telephone wires are arou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experimental cars also use PV cells. They convert sunlight directly into energy to power electric motors on the c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me solar power plants, like the one in the picture to the right in California's Mojave Desert, use a highly curved mirror called a parabolic trough to focus the sunlight on a pipe running down a central point above the curve of the mirror. The mirror focuses the sunlight to strike the pipe, and it gets so hot that it can boil water into steam. That steam can then be used to turn a turbine to make electrici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oblem with solar energy is that it works only when the sun is shining. So, on cloudy days and at night, the power plants can't create energ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Advantag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mited su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23:53:49Z</dcterms:created>
  <dc:creator>!Word Son!</dc:creator>
  <dc:description/>
  <dc:language>en-US</dc:language>
  <cp:lastModifiedBy>!Word Son!</cp:lastModifiedBy>
  <dcterms:modified xsi:type="dcterms:W3CDTF">2009-04-21T00:11:10Z</dcterms:modified>
  <cp:revision>4</cp:revision>
  <dc:subject/>
  <dc:title>Slide 1</dc:title>
</cp:coreProperties>
</file>